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89C-0D50-4FF2-8291-55CA28B2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C16-E82F-403D-B293-E1A11E99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FD5-4CB8-4D35-AD23-F033D737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0B7-21E9-4F65-BB75-3523ED24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A24-1806-4744-B756-10814A6D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9B8-07B4-41FE-B829-B6067FC4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468-8EF6-42A2-9067-4223C06B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C39-9174-4F39-B101-EA3B7A5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92D-4CBF-424A-9CEA-2E57C303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021-70C3-481A-BD38-BDFBC9C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F56-3AE1-451D-812C-80F427C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BC7-E5F5-4DA0-9E41-982703F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448-6D62-4D44-B1DE-7CEE9A38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ir Pollution Informational Broch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brochure explaining what air pollution is, how and why it happens, its dangers, and how we can help preven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hure will be used to educate the general public about air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help preven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have three days in the lab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. Nov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. Decemb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. Decemb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Wed. Decemb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pollu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public about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and Preven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public about the affects of air pollution and how to preven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y preven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, picture, and “attention get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F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occur? What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hird and Middle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ir pollution affect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air pollution be pre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h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nformation and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3:46:49Z</dcterms:created>
  <dc:creator>Alicia Burge</dc:creator>
  <dc:description/>
  <dc:language>en-US</dc:language>
  <cp:lastModifiedBy>Alicia Burge</cp:lastModifiedBy>
  <dcterms:modified xsi:type="dcterms:W3CDTF">2010-11-30T00:02:53Z</dcterms:modified>
  <cp:revision>4</cp:revision>
  <dc:subject/>
  <dc:title>Natural Disasters Project</dc:title>
</cp:coreProperties>
</file>